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193-DF16-4F63-9AA6-7347567D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BA2-82A6-4608-9037-D7AB88E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427-126E-43AC-96AC-ABCCD17F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03D-7E15-4D2F-A6B0-63FD7FEC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28F-6069-4B4D-956F-822C3813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016-9945-4922-B086-7B8D3BC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8C0-8B17-4E42-B799-F31E59D9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123-7CBA-45CE-BF29-FCDA1778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800-2F5C-498E-88AE-80CA53B7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35C-EA3D-4001-804F-BF98154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E6C-035C-4B43-B7A5-8DAD44A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947-B667-45F6-B68E-D5D96F3F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F1E-367B-4CA9-897F-38609D556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brain+parts&amp;um=1&amp;hl=en&amp;safe=active&amp;sa=N&amp;rlz=1T4ADRA_enUS484US485&amp;biw=771&amp;bih=399&amp;tbm=isch&amp;tbnid=uIlkxqbuXBQntM:&amp;imgrefurl=http://www.uic.edu/classes/bios/bios100/lecturesf04am/lect22.htm&amp;docid=s8n9KJl8qjp8pM&amp;imgurl=http://www.uic.edu/classes/bios/bios100/lecturesf04am/brain_3.gif&amp;w=507&amp;h=307&amp;ei=PmWRUP7gL-veigKf1IHQAg&amp;zoom=1&amp;iact=hc&amp;vpx=178&amp;vpy=69&amp;dur=2938&amp;hovh=175&amp;hovw=289&amp;tx=186&amp;ty=112&amp;sig=102988451964318224399&amp;page=1&amp;tbnh=73&amp;tbnw=120&amp;start=0&amp;ndsp=10&amp;ved=1t:429,r:6,s:0,i:91&amp;surl=1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each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Nervous System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s within the body and in the outsid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aly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ensory information, stores some of it, and make decisions regarding appropriate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resp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imuli by initiating action in the form of muscular cont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s – specialized for nerve impulse con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up of cell body, dendrites, and a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17220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 and mediate to the rest of your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it is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ing membrane pote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dium is out of the cell and potassium is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timulus hits the neuron, it goes through a nerve impulse (nerve action potent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pid change in membrane potential that involves depolarization and re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ulse self propa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ropagation of Nerve Impluse - Saltatory Conduction"/>
          <p:cNvPicPr/>
          <p:nvPr/>
        </p:nvPicPr>
        <p:blipFill>
          <a:blip r:embed="rId1"/>
          <a:stretch/>
        </p:blipFill>
        <p:spPr>
          <a:xfrm>
            <a:off x="1447920" y="533520"/>
            <a:ext cx="5810040" cy="60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when you get to the end of a neu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152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858000" cy="382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5665680"/>
            <a:ext cx="7772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ulses are conducted across a synapse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te where two neurons or a neuron and an effector cell can communi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oogle Image Result for http://www.uic.edu/classes/bios/bios100/lecturesf04am/brain_3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abused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nts – increase alertness and phys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he amount of dopamine (neurotransmitter) released into a syn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to adenosine recep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2895480"/>
            <a:ext cx="1314720" cy="98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7:50:10Z</dcterms:created>
  <dc:creator>jhiraoka</dc:creator>
  <dc:description/>
  <dc:language>en-US</dc:language>
  <cp:lastModifiedBy>jhiraoka</cp:lastModifiedBy>
  <dcterms:modified xsi:type="dcterms:W3CDTF">2012-10-31T17:59:41Z</dcterms:modified>
  <cp:revision>2</cp:revision>
  <dc:subject/>
  <dc:title>Nervous system</dc:title>
</cp:coreProperties>
</file>